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t a Skype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urchase Skype to Phone ~$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se Audacity to recond the phone call coming out of your speakers with your microphone of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5 first month/$10 each ad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ry easy to use, blog for shownotes &amp; feed are aut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5 first month/$10 each ad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ry easy to use, blog for shownotes &amp; feed are aut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0" y="-6470640"/>
            <a:ext cx="1440" cy="14333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9.95 / 20 posts/month – 2048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do not need an iPod to Podcast! You can use any kind of MP3 player to listen (computer or portable devi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ord you can use a microphone, telephone or portable recr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can locate podcasts through feed readers like iTunes and Bloglines, online directories like Podcast Alley and Odeo, and through hosting sites like Gabcast and Podom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Blog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t up a FREE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ck 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ste in the URL of the page where the podcast you want to subscribe to is 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may want to set up a separate folder to colledt po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in the “Feed” tab, click “Ed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 “New Folder”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ame your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ck “Finished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g and drop your podcast subscriptions into the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A30-0E78-49C0-97E9-5943AEF6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619-06A0-432C-A59E-375D1FB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795-FADB-4859-80AC-919E5D42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459-1EC3-458E-9AEC-1EA89CC1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355-45FA-43C4-8674-67D7B71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562-17FF-497F-9713-FA432EF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3B1-21DF-46EC-B576-EB4F769D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754-53A5-4A0A-9224-BB950CF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CAF-4C9B-4201-9848-8178867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175-9485-441B-86CD-3A6C89F5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A13-1B27-47EC-92DD-DA88A89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F5A-26F2-479D-930A-505265D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8DE62-0F8F-49AA-8781-5E60394BC2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hyperlink" Target="http://www.skype.com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hyperlink" Target="http://www.ourmedia.org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odomatic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bsyn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ejournal.com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hyperlink" Target="http://www.apple.com/itune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eo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d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nted for EDC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6440" y="1386000"/>
          <a:ext cx="83329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86000"/>
                    <a:ext cx="83329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69960" y="58323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skype.c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ing with Sk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1143000"/>
          <a:ext cx="746928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4692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91120" y="62136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ourmedia.or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228600"/>
            <a:ext cx="7770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ee Online Storage: Our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2200" y="617220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odomatic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, Store &amp; Post: Podoma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5951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6800" y="61722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ibsyn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e &amp; Post: LibSy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 by Phone: Livejou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5486040"/>
            <a:ext cx="77709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ivejournal.com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1360" y="1143000"/>
            <a:ext cx="59324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0120" y="2057400"/>
            <a:ext cx="3689280" cy="416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7400" y="1371600"/>
            <a:ext cx="5486400" cy="525780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057400"/>
            <a:ext cx="3733920" cy="38862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 iPod Requir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048200" cy="338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333440" cy="257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91120" y="28954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057400" y="1143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5335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629400" y="3886200"/>
            <a:ext cx="2219400" cy="221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ing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iT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1828800"/>
          <a:ext cx="708480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0848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42320" y="60609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pple.com/itun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240" y="6248520"/>
            <a:ext cx="35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loglines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Blog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5655960"/>
            <a:ext cx="7770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loglines.com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6480" y="6248520"/>
            <a:ext cx="29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deo.c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O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143000"/>
          <a:ext cx="830592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0592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92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\All Programs\Accessories\Entertainment\Sound 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EE Sound Recorder (Windows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7520" y="5985000"/>
            <a:ext cx="40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udacity.sourceforge.net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143000"/>
          <a:ext cx="6770520" cy="421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43000"/>
                    <a:ext cx="677052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80010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 with Audacity (PC or Mac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09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 with Garage Band (Mac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276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dcasting</dc:title>
</cp:coreProperties>
</file>